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9C2-8020-4FE2-99B9-FADBDBB7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836-0DA1-44E9-B5BC-A17B68FE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3B9-F84E-4CF3-A430-32F4E054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7E3-C7EC-4743-94F8-8F97077A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2B37-3AD3-4B74-BDA9-FBDF11A4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E915-DB6B-4C91-AA6D-BC983CCC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7E6-AAFC-493E-A847-D77AE62E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AB67-586F-4B83-B19C-090DE54E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C36-CF49-4118-AD60-A4B8F2A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FC3-A839-409D-B15E-68FF829C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7A04-1EAB-42EA-8B0F-5E21103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EC7-4693-4446-96D9-5C8511D1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D62E-F9D1-4620-B896-6A7C43D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1AAB-1602-4DB2-847A-B0B1C88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1BB-D0CA-49AE-B66E-61F227E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CFB8-727F-4C9B-87E3-5015E8AC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E0B3-5E1D-4404-AD7B-69334DE4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0D0F-1A94-4ADA-B0FD-EA7A5554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B4AF-02B6-4486-B2A5-EA1752A2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6EFB-3E58-4DC2-93C8-483E441B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B0CB-EB6F-4604-82B8-3D1D1D70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10DB-AECA-499C-BF31-6922DEC5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229-3932-4401-A4D1-CFF4EC95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C8B7-0A0C-4E01-9252-F3C2B516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5BFD-07E1-4F28-A1A3-CC1DED5D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AF4C-6688-4353-A848-A9DF3E1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4510-B0C6-4B6B-B363-D931ECE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5D20-9890-4736-9C42-3174DD21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E4653-642B-4761-857C-09A34D97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2B89-7D87-47B3-ADDB-B9F8D95F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283C-D3D1-48D6-8546-F545A511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C2CE-8696-4193-A7A9-85E644C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6A88-754C-4157-8309-D3181B2E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111-0161-4097-BCBB-B0A3AEF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D304-41E7-4955-A554-8B404AC5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F534-25C7-47C4-AA21-16CEC9E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B715-BE07-459C-B328-C8CA5C4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8274-1FEE-4021-AA88-76678F4C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CEC2-5018-47E3-8548-2678476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D3AD-536A-484D-8A31-B7486FEB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84D4-E015-44FA-BDF3-5941D6B4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ACD8-C345-4DB5-9766-16BAD418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435D8-C0D7-4073-A7AA-B1D42CA9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900F1-6F48-43B6-9D46-C02EB0C7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6C7-74FD-428F-9F57-B2021AD9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6CEE-CD32-4547-ABE7-A388507B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85FAF-CBE1-4C5D-83D6-0CD8A097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8270-4C95-4011-BFBA-53CD1887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68CF-D446-439A-AA22-D195DD83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CA621-4863-4BB3-97F9-5A73C93C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89938-D7C8-404C-A3F0-CDC5CBF1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F102-EA07-4581-9CD3-94B489E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4D2DC-8E7F-4671-B44B-432EF47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499BB-B4F7-4057-A091-133DBE1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37B28-FD33-4F41-A41F-E3114760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760-0698-41D3-8997-D271435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025A-6762-4AFB-BB10-12D83C0C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C5977-1846-4DD0-BF6E-8E17DC79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E835-38E0-43C8-B46D-D33E2FA8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107FB-8DD4-4A9F-B85E-DC2453E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70D63-3CBA-47E9-ACCC-1EE7BEF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DC71F-5F8C-4A49-9B0E-B4B7E6D7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1543E-EAF3-4C7B-876A-1C1E828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FE26-C054-49FB-A610-3194604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428C-1830-408D-AFBF-0AE2F4F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7432-9456-4D98-BC9C-798A420C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FCB-C3C7-4412-8BFA-2D25267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C24C1-12AD-4DC7-BEFE-EAE19CB4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A2E5-E53A-4B2B-BCD1-0CD3D4FB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B6228-69B6-4D29-8AF1-1AB0DEC1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FDAD2-E59B-490B-995F-B948A49B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F34FA-E745-45BD-8A0E-78E3C607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646AC-311B-40E2-96D1-4D9AADF5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67DC5-46D1-408A-8045-24E44D81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52A68-D64A-4E3E-901F-1E96D8D6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18ED1-B368-4941-A198-A7F28FD8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F8CAC-01D6-4729-AA3E-3284ED5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5ED-AE38-4A22-A420-FF565937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BEA81-EBD4-4460-B03C-7353A54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E0F5-8BA3-4594-A3B2-D52AD4E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464F-60C9-4C9A-B0A4-CD0AC95A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4EC50-D4C4-4A37-907C-03ACB88A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C4A1-E44A-42CC-9024-B2473412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68D-63CA-4A2F-BF9C-996E0F7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3887-81DD-4658-BC66-B26760B2AF5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FE1A-EEF3-4C8C-8FB1-20725921F37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D10-8C25-4C8A-9451-D5815AF2D66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62F-44D6-4CA3-9BDB-07F4FB0D299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D5E6-E2D9-4672-B6EE-E2695170FA0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A072-14B4-49AC-A3CF-125D2A0B0AF8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B31-6A3C-4B38-8624-D8E321594A5E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3" descr=""/>
          <p:cNvPicPr/>
          <p:nvPr/>
        </p:nvPicPr>
        <p:blipFill>
          <a:blip r:embed="rId1"/>
          <a:stretch/>
        </p:blipFill>
        <p:spPr>
          <a:xfrm>
            <a:off x="334800" y="506520"/>
            <a:ext cx="5164200" cy="39369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286160" y="4652640"/>
            <a:ext cx="48578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ть -  сестра таланта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 Чехов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2" descr="C:\Documents and Settings\Андрей\Рабочий стол\chehov-photo-4[1].jpg"/>
          <p:cNvPicPr/>
          <p:nvPr/>
        </p:nvPicPr>
        <p:blipFill>
          <a:blip r:embed="rId2"/>
          <a:stretch/>
        </p:blipFill>
        <p:spPr>
          <a:xfrm>
            <a:off x="5429160" y="0"/>
            <a:ext cx="3714840" cy="424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388c"/>
                </a:solidFill>
                <a:latin typeface="Century Gothic"/>
              </a:rPr>
              <a:t>Псевдонимы А.П. Чехова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entury Gothic"/>
              </a:rPr>
              <a:t>«Брат моего брата», </a:t>
            </a: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entury Gothic"/>
              </a:rPr>
              <a:t>«Человек без селезёнки»,</a:t>
            </a: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entury Gothic"/>
              </a:rPr>
              <a:t>«Антоша Чехонте» </a:t>
            </a: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сценировка фрагмента рассказ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Arial"/>
                <a:ea typeface="Arial"/>
              </a:rPr>
              <a:t>«Толстый и тонкий»</a:t>
            </a: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4859280" y="5084640"/>
            <a:ext cx="4284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и исполняю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лст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ебедев Даниил, 6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рофимов Денис, 6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из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трова Кристина, 6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фанаи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драшин Влад, 6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3" descr="0006-006-Tolstyj-i-tonkij.jpg"/>
          <p:cNvPicPr/>
          <p:nvPr/>
        </p:nvPicPr>
        <p:blipFill>
          <a:blip r:embed="rId1"/>
          <a:stretch/>
        </p:blipFill>
        <p:spPr>
          <a:xfrm>
            <a:off x="2340000" y="1700280"/>
            <a:ext cx="4446720" cy="3457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1143000" y="38448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е  т  ы  р  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  у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з 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 т  о  л  о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а  ч  а  л  ь  н  и  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н  к  и  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о  р  т  с  и  г  а  р  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  е  р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с  т  р  а  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е  х  о  н  т  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  о  р  ф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р  и  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  о  л  с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ы  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 о  к  з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  а  ф  а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а  и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  ф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а  л  ь  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  к  а  м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н  е  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Рисунок 2" descr="34.jpg"/>
          <p:cNvPicPr/>
          <p:nvPr/>
        </p:nvPicPr>
        <p:blipFill>
          <a:blip r:embed="rId1"/>
          <a:stretch/>
        </p:blipFill>
        <p:spPr>
          <a:xfrm>
            <a:off x="0" y="0"/>
            <a:ext cx="2503440" cy="4071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785880" y="642960"/>
            <a:ext cx="757224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ворящая» деталь заменяет подробное описа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рассказа – диало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ечь героев как основа их неповтор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30240"/>
            <a:ext cx="8736120" cy="14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Содержимое 2"/>
          <p:cNvSpPr/>
          <p:nvPr/>
        </p:nvSpPr>
        <p:spPr>
          <a:xfrm>
            <a:off x="571680" y="2214720"/>
            <a:ext cx="3657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что пообедал на вокзале, губы лоснились, как спелые виш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ло от него хересом и флёрдоранж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одержимое 3"/>
          <p:cNvSpPr/>
          <p:nvPr/>
        </p:nvSpPr>
        <p:spPr>
          <a:xfrm>
            <a:off x="4572000" y="2214720"/>
            <a:ext cx="3657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что вышел из вагона и был навьючен чемоданами, узлами и картон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ло от него ветчиной и кофейной гу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Текст 4"/>
          <p:cNvSpPr/>
          <p:nvPr/>
        </p:nvSpPr>
        <p:spPr>
          <a:xfrm>
            <a:off x="0" y="1000080"/>
            <a:ext cx="3657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Текст 5"/>
          <p:cNvSpPr/>
          <p:nvPr/>
        </p:nvSpPr>
        <p:spPr>
          <a:xfrm>
            <a:off x="4643280" y="1000080"/>
            <a:ext cx="2729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21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сценировка фрагмента рассказ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Arial"/>
                <a:ea typeface="Arial"/>
              </a:rPr>
              <a:t>«Хирургия»</a:t>
            </a: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4716360" y="4437000"/>
            <a:ext cx="4427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и исполняю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льдшер Курят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драшин Влад, 6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ьячок Вонмигла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валев Даниил, 6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ривицына Ксения, 6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Рисунок 5" descr="1.png"/>
          <p:cNvPicPr/>
          <p:nvPr/>
        </p:nvPicPr>
        <p:blipFill>
          <a:blip r:embed="rId1"/>
          <a:stretch/>
        </p:blipFill>
        <p:spPr>
          <a:xfrm>
            <a:off x="611280" y="1844640"/>
            <a:ext cx="3916440" cy="475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1143000" y="448920"/>
            <a:ext cx="8001000" cy="63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2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льдш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фим Михе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кой с хреном, теплым моло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Иваныч Египетск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ипцы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фиру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ис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43000" y="699840"/>
            <a:ext cx="80010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ЮМО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изображение героев в смешном виде, юмор- смех весе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доброжела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И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беспощадное, уничтожающее осмеяние, критика героев,  действительности,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58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сценировка фрагмента рассказ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Arial"/>
                <a:ea typeface="Arial"/>
              </a:rPr>
              <a:t>«Двое в одном»</a:t>
            </a: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  <a:p>
            <a:pPr marL="3582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Прямоугольник 3"/>
          <p:cNvSpPr/>
          <p:nvPr/>
        </p:nvSpPr>
        <p:spPr>
          <a:xfrm>
            <a:off x="4716360" y="4437000"/>
            <a:ext cx="4427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и исполняю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цо высокопоставле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лиев Элнур, 6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 Капитоны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ишков Влад, 6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женкова Полина, 6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одержимое 2"/>
          <p:cNvSpPr/>
          <p:nvPr/>
        </p:nvSpPr>
        <p:spPr>
          <a:xfrm>
            <a:off x="571680" y="2214720"/>
            <a:ext cx="3657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ольшая шуб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ний воротни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одержимое 3"/>
          <p:cNvSpPr/>
          <p:nvPr/>
        </p:nvSpPr>
        <p:spPr>
          <a:xfrm>
            <a:off x="4572000" y="2214720"/>
            <a:ext cx="3657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заячьей шубен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осик в заячьем мех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Текст 4"/>
          <p:cNvSpPr/>
          <p:nvPr/>
        </p:nvSpPr>
        <p:spPr>
          <a:xfrm>
            <a:off x="0" y="1000080"/>
            <a:ext cx="52196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высокопоставл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Текст 5"/>
          <p:cNvSpPr/>
          <p:nvPr/>
        </p:nvSpPr>
        <p:spPr>
          <a:xfrm>
            <a:off x="4643280" y="1000080"/>
            <a:ext cx="424980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 Капитоныч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ляр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9156960" cy="21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17" name="Picture 2" descr="C:\Users\555\Desktop\к презентации\0002-001-A_P_-CHekhov.jpg"/>
          <p:cNvPicPr/>
          <p:nvPr/>
        </p:nvPicPr>
        <p:blipFill>
          <a:blip r:embed="rId1"/>
          <a:stretch/>
        </p:blipFill>
        <p:spPr>
          <a:xfrm>
            <a:off x="2411280" y="333360"/>
            <a:ext cx="4848480" cy="5834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одзаголовок 4" descr=""/>
          <p:cNvPicPr/>
          <p:nvPr/>
        </p:nvPicPr>
        <p:blipFill>
          <a:blip r:embed="rId1"/>
          <a:stretch/>
        </p:blipFill>
        <p:spPr>
          <a:xfrm>
            <a:off x="334800" y="835200"/>
            <a:ext cx="8601120" cy="3670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написать короткий юмористический рассказ на свободную тему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19" name="Picture 2" descr="C:\Users\555\Desktop\к презентации\chehov_11.jpg"/>
          <p:cNvPicPr/>
          <p:nvPr/>
        </p:nvPicPr>
        <p:blipFill>
          <a:blip r:embed="rId1"/>
          <a:stretch/>
        </p:blipFill>
        <p:spPr>
          <a:xfrm>
            <a:off x="2627280" y="0"/>
            <a:ext cx="4471920" cy="662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5" descr="0002-002-для уррока литер"/>
          <p:cNvPicPr/>
          <p:nvPr/>
        </p:nvPicPr>
        <p:blipFill>
          <a:blip r:embed="rId1"/>
          <a:stretch/>
        </p:blipFill>
        <p:spPr>
          <a:xfrm>
            <a:off x="1332000" y="549360"/>
            <a:ext cx="7308720" cy="548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c9c"/>
                </a:solidFill>
                <a:latin typeface="Century Gothic"/>
              </a:rPr>
              <a:t>Домик А.П. Чехова в Таганроге</a:t>
            </a:r>
            <a:endParaRPr b="0" lang="en-US" sz="36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4" name="Picture 2" descr="C:\Users\555\Desktop\к презентации\d094d0bed0bcd0b8d0ba-d0a7d0b5d185d0bed0b2d0b01.jpg"/>
          <p:cNvPicPr/>
          <p:nvPr/>
        </p:nvPicPr>
        <p:blipFill>
          <a:blip r:embed="rId1"/>
          <a:stretch/>
        </p:blipFill>
        <p:spPr>
          <a:xfrm>
            <a:off x="1763640" y="1700280"/>
            <a:ext cx="5505480" cy="3936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5c9c"/>
                </a:solidFill>
                <a:latin typeface="Century Gothic"/>
              </a:rPr>
              <a:t>Лавка Чеховых</a:t>
            </a:r>
            <a:endParaRPr b="0" lang="en-US" sz="44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6" name="Picture 2" descr="C:\Users\555\Desktop\к презентации\060.jpg"/>
          <p:cNvPicPr/>
          <p:nvPr/>
        </p:nvPicPr>
        <p:blipFill>
          <a:blip r:embed="rId1"/>
          <a:stretch/>
        </p:blipFill>
        <p:spPr>
          <a:xfrm>
            <a:off x="1332000" y="1773360"/>
            <a:ext cx="6476760" cy="4348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8" name="Picture 2" descr="C:\Users\555\Desktop\к презентации\0004-004-JUnosheskie-gody.jpg"/>
          <p:cNvPicPr/>
          <p:nvPr/>
        </p:nvPicPr>
        <p:blipFill>
          <a:blip r:embed="rId1"/>
          <a:stretch/>
        </p:blipFill>
        <p:spPr>
          <a:xfrm>
            <a:off x="324000" y="452520"/>
            <a:ext cx="8820000" cy="583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48320" y="1882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1" name="Picture 2" descr="C:\Users\555\Desktop\к презентации\000011.jpg"/>
          <p:cNvPicPr/>
          <p:nvPr/>
        </p:nvPicPr>
        <p:blipFill>
          <a:blip r:embed="rId1"/>
          <a:stretch/>
        </p:blipFill>
        <p:spPr>
          <a:xfrm>
            <a:off x="755640" y="907920"/>
            <a:ext cx="7775640" cy="4834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3" name="Picture 2" descr="C:\Users\555\Desktop\к презентации\0005-005-Universitetskie-gody.jpg"/>
          <p:cNvPicPr/>
          <p:nvPr/>
        </p:nvPicPr>
        <p:blipFill>
          <a:blip r:embed="rId1"/>
          <a:stretch/>
        </p:blipFill>
        <p:spPr>
          <a:xfrm>
            <a:off x="539640" y="0"/>
            <a:ext cx="8604360" cy="6453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Лескина</dc:creator>
  <dc:description/>
  <dc:language>en-US</dc:language>
  <cp:lastModifiedBy>Admin</cp:lastModifiedBy>
  <dcterms:modified xsi:type="dcterms:W3CDTF">2021-06-09T12:53:54Z</dcterms:modified>
  <cp:revision>38</cp:revision>
  <dc:subject/>
  <dc:title>Слайд 1</dc:title>
</cp:coreProperties>
</file>